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93ED-2561-4E71-B3A9-E7561978F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C49E-CEAE-4153-A05E-358FAF159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9497-28EB-41F9-BA31-7DFBF5B85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E06B-4E02-474F-8C41-7DC3F6A5F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21F5-1785-42BE-AC29-74E5886FA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8F4D-6898-48F0-A0F3-7D53C3099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ADA4-15D5-4D2A-9BFE-FA2D648B9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B714-B6D4-4964-AAF4-7E7A5A937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AD6B-E3C5-4C7D-B0EB-8ADBFCB89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C27F-0DC7-40EE-8885-8BA37C63F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1A6F-AF79-42BC-BACF-E7C90BA64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FCFC-6733-4C4B-9CD9-5AD3522B2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2277-0F9D-408D-8C05-B65F7F6F2AB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 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 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urveys.saltgroup.com.au/thinking_mt" TargetMode="External"/><Relationship Id="rId2" Type="http://schemas.openxmlformats.org/officeDocument/2006/relationships/hyperlink" Target="http://surveys.saltgroup.com.au/thinking_pt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mtfile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mtfiles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" TargetMode="External"/><Relationship Id="rId2" Type="http://schemas.openxmlformats.org/officeDocument/2006/relationships/hyperlink" Target="http://www.tmd.com.au/education/thinking/mtfiles" TargetMode="External"/><Relationship Id="rId3" Type="http://schemas.openxmlformats.org/officeDocument/2006/relationships/hyperlink" Target="mailto:education@crossmark.com.au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mtfil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assessingproject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assessingproject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flecting on Your Unit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15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Unit Reflection Checklist to help guide your evaluation proces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does your unit support the complexities of the subject matte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o the use of the thinking tools support and begin to provide answers for the overall uni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any necessary revis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C6B4-A7B5-4645-B9A5-C184FC2E31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mple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Finalising Your Unit Idea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16 – 11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questions to help you develop ideas for the procedural section of the Unit Plan.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Revisiting Your Unit Pla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1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implementation ideas from Step 1 to revise you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t Plan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F74B-CD57-4CB7-8EA3-0E2BBF2382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owcas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695240"/>
            <a:ext cx="823752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Considering Showcase Options for Student Projects -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.2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 ideas for showcasing project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me ideas for showcasing projects includ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mall Grou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otation S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ole Gro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ir and Sh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rtual Show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6C88-D81A-4D26-83C3-EEAA16313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owcas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307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Preparing for the Showcas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2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en showcasing your unit,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Unit Plan's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brief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 active link to the thinking tools login pa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you are using a wiki, upload these files for your showcas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y other documents you would like to sh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cide how you will receive feedb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F8AF-DDA3-41F3-A0A4-7F1FA6EC9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owcas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23520"/>
            <a:ext cx="8002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3: Showcasing Your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1.22 – 11.2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senting at the Show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general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ighlight Curriculum Framing Questions and standards/syllabus outcom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Assessment Plan and 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sent student sampl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ing Feedback at the Show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howcase Feedback Form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page 11.24) and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oject Rubric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1.25-11.2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k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concrete positive and feedback and sugg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0715-3606-4C20-A51E-C01266BA48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flecting on the Cours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Evaluating the Cour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2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ompleting the Online Evalu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ster Trainers:  Please go to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surveys.saltgroup.com.au/thinking_mt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 to complete your online evaluation.  Use password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i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o access the survey for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nt Teachers: Please go to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http://surveys.saltgroup.com.au/thinking_pt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 to complete your online evaluation.  Use password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i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o access the survey for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5A01-627D-4D36-A171-9082E0418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flecting on the Cours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7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Reflecting on Lessons Learned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860a8"/>
                </a:solidFill>
                <a:latin typeface="Verdana"/>
              </a:rPr>
              <a:t>- Module 11.28 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 on your use of the thinking too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other classroom projects could benefit from the use of the online thinking tool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ill the ideas and skills learned from this course affect your teaching practice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f everything you learned, what do you think will have the biggest impact on student learn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did you find most valuable about the cours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Enter wiki URL and directions here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354B-7274-4A11-91F3-4D3582532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nhancing Assessment in Your Unit 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.29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Use the resources in the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application to learn mor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bout integrating ongoing assessment in your unit.  Continue your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work using the Assessing Projects application to enhance or complet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the assessment you started in Activity 2 or to create an additional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ssessment for your un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2D3A-CDC3-4A63-B3D0-BF408CB4CC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400"/>
            </a:b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Module 11</a:t>
            </a:r>
            <a:br>
              <a:rPr sz="3000"/>
            </a:br>
            <a:br>
              <a:rPr sz="1400"/>
            </a:b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3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5760" y="2048040"/>
          <a:ext cx="8237520" cy="307476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1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7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ome common assessments used in a project-approach to learning are rubrics, scoring guides, and checklis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ubrics are distinguished from other scoring tools, like checklists, because they outline levels of quality with descripto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main goal of a rubric is to define levels of quality and "publicise" these expectations to students, parents, and oth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 can use events like a showcase to allow the greater community to provide input to your students and to celebrate their achiev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E6DB-F80F-4EC0-A3AC-3E51D70174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676520"/>
            <a:ext cx="86742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Teach Thinking With Technology Course</a:t>
            </a:r>
            <a:br>
              <a:rPr sz="2100"/>
            </a:br>
            <a:br>
              <a:rPr sz="3000"/>
            </a:b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Master Trainer Responsibiliti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B: Master Trainer Resources (including the Master Trainer Appendix) are located at: </a:t>
            </a:r>
            <a:r>
              <a:rPr b="1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mtfiles</a:t>
            </a:r>
            <a:br>
              <a:rPr sz="1800"/>
            </a:b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A88A-7F5A-49DB-ADAF-887B3A60EA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762120"/>
          <a:ext cx="8237520" cy="4978440"/>
        </p:xfrm>
        <a:graphic>
          <a:graphicData uri="http://schemas.openxmlformats.org/drawingml/2006/table">
            <a:tbl>
              <a:tblPr/>
              <a:tblGrid>
                <a:gridCol w="1523880"/>
                <a:gridCol w="6713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6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e a </a:t>
                      </a:r>
                      <a:r>
                        <a:rPr b="0" i="1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6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effective questioning techn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6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se case and Unit Pl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47FB-0C18-4E72-B638-9A3C4DD28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Guidelines for Recruiting 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rticipant Teacher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T Appendix I.0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articipant Teachers mu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 current K-12 teachers in a participating district/consortiu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ssess intermediate-level computer and technology integration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tend the full cour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ave access to Internet-connected compu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ree, pedagogically based, hands-on trai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ree access to online too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on of a unit aligned to standards/syllabus outcomes, including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nking tool sample projec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Knowledge of new ways to help students manage, explore, and communicate understanding of complex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28E5-C905-4617-8DAB-6D0E9E9B9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rticipant Teacher Courses: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cheduling Optio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T Appendix I.0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Choose a course agenda from 24–40 hours to fit your Participant Teachers’ needs.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quired Component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l courses contain Modules 1 through 4 and Module 11 (18 hours), which includ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nit Plan Template based on standards/syllabus outcome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rriculum Framing Question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ject approach to learning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ssessment Plan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ssessment created with the Intel</a:t>
            </a:r>
            <a:r>
              <a:rPr b="0" lang="en-US" sz="14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Education </a:t>
            </a: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acher Workspace set up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us any combination of one to three thinking tool project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Visual Ranking Tool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s 5</a:t>
            </a: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nd 6 (6 hour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Seeing Reason Tool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s 7 and 8 (8 hour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Showing Evidence Tool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s 9 and 10 (8 hour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B47F-3CD2-45AF-8A0D-942AD5F57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ferred schedul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½ to 1 module per day (2–4 hours)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1 module per day (Monday through Friday) for two week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1 module per week (2 hours on Tuesday, 2 hours on Thursday) for 10 week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ime between sessions to allow thinking, reflection, and processing time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8-hour session on Saturdays for 5 week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inimum schedule for a three-tool course (40 hour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ven consecutive days can be done, but not recommended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wo modules per day is OK </a:t>
            </a:r>
            <a:r>
              <a:rPr b="1" i="1" lang="en-US" sz="14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f days are scheduled between (such as, five Saturday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No five-consecutive day training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rticipant Teacher Courses: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cheduling Optio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continued)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T Appendix I.0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643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5 Intel Corporation. All Rights Reserved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8766-43C3-4446-8DDD-102042687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Course Prepar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8237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ster Trainer Milestones – MT Appendix I.03–I.04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start to complete “Planning Your Course” – MT Appendix J.01 – J.0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instructions for setting up the Thinking Tool projects required for Participant Teacher Training – MT Appendix J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optional wiki setup instructions – MT Appendix J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ster Trainer Module Checklists – Master Trainer Resource site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mtfi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Computer Lab Specifications – Appendix A.01 in manua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interactive thinking tools can be used on Windows* or Macintosh* comput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ritical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e sure to test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mo on class computers prior to the first day of your cours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227D-FE7A-4FA6-A787-F80857613F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Intel® Teach Program Website:</a:t>
            </a:r>
            <a:br>
              <a:rPr sz="2200"/>
            </a:br>
            <a:r>
              <a:rPr b="1" lang="en-US" sz="22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ster Trainer Regist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n day 5 of your training for Thinking with Technology, please register as a Master Trainer on the above site.  Registration instructions are included in your Master Trainer handouts, and are also available in MT Appendix H on the Master Trainer Resource site: 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tmd.com.au/education/thinking/mtfile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nt Teacher Class Regist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hen you are ready to begin training your Participant Teacher class, you need to register the class on the above site.  Please refer to the instructions in MT Appendix H for full information about how to do this, and also how to order your Participants’ certificates as you approach the completion of their training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you have any questions about how to use the Intel Teach Program website please email 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education@crossmark.com.au</a:t>
            </a:r>
            <a:r>
              <a:rPr b="0" lang="en-US" sz="1400" spc="-1" strike="noStrike" u="sng">
                <a:solidFill>
                  <a:srgbClr val="0860a8"/>
                </a:solidFill>
                <a:uFillTx/>
                <a:latin typeface="Verdana"/>
              </a:rPr>
              <a:t> or telephone the Intel Teach Program team on 02 9439 1233.  If you need additional copies of the Thinking with Technology manual please contact your state coordinat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643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5 Intel Corporation. All Rights Reserved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8993-C26F-46D0-9F88-E81959D457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Course Resources and Master Trainer Resource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source Download Sit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mtfil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- for multimedia presentations for each module of your Participant Teacher training and many other support materials to assist you in your role as a Thinking with Technology Master Train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tmd.com.au/education/thinking/resourc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- for general resources needed by all course participant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6643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5 Intel Corporation. All Rights Reserved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9D65-94B1-437D-886B-50DB64C120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ngratulations on completing the </a:t>
            </a:r>
            <a:br>
              <a:rPr sz="20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Intel® Teach Program Thinking with Technology Course!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Your Senior Trainer will present your certificate of completion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B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eview the invitation (see your Master Trainer handouts) to join the Intel Teach Master Trainer Discussion List – a great way to keep in touch with other program participants and exchange hints and tip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B26F-3535-4786-9261-50819886F4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8E6D-7411-43E9-8ED4-B4D51BC1AC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mplet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19720" y="152388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elements and uses of various 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n assessment for your unit using the Assessing Projects applicatio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e your Unit Pla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owcase your uni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te the 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each Thinking with Technology Cour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 on lessons learn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eive Certificate of Comple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440" y="993600"/>
            <a:ext cx="4157640" cy="41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03DA-75AC-4D2B-9D13-0C13FACF13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Your Assessmen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95240"/>
            <a:ext cx="82375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Considering Resources that Will Support Your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 Assessment Pla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1 – 11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are assessment methods and supporting documents to the methods and resources identified i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ssessment documents could you use to support your uni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9221-B6D2-46A8-B52C-4165219E0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Your Assessmen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Taking a Closer Look at Rubrics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.03 – 11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characteristics of rubr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ider whether a rubric would best support your students in the development and assessment of their project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CC11-28E6-4FC7-9067-2AEE0014A6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n Assessmen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161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33360" y="1666800"/>
            <a:ext cx="80773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Introducing the Assessing Projects Applic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application allows you to create three types of assessment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819520"/>
            <a:ext cx="7315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bric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ecklis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oring Gui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191120"/>
            <a:ext cx="8153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75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Determining the Focus of Your Assessment(s)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rmine the higher order thinking skills, products, performances, or processes do you want to target in this assess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6099-186F-4139-8DD6-145DF8840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n Assessmen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3: Planning an Assessmen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7 – 11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or adapt an existing assessment based upon your current Assessmen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assessment should inclu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anguage that clearly communicates the quality requir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igher order thinking skill words in your descriptors (view your “Teaching and Learning Taxonomy” for idea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iteria that is content-specific 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structions to the student (if a student self- or peer-assessmen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oom for comments/feedback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n your assess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57BF-C0AC-4A43-9479-E35E94C1A6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n Assessmen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4: Using the Assessing Projects Application to Create an Assessmen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9 – 11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components of a rubri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Assessing Projects: </a:t>
            </a:r>
            <a:r>
              <a:rPr b="0" i="1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assessing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ry 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Workspa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ab to create an assessment from scratch or revise an assessment from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sessment Libr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rt your assessment to your Project Fol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dit your assess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280520" y="6095880"/>
            <a:ext cx="42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575C-39E4-4B73-8066-80D11954E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Assessment Plan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13 - 11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280" y="1561680"/>
            <a:ext cx="8237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ise your ideas in your Assessment Plan using the guiding questions on pages 11.13-11.14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 and revise your Assessment Plan and time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dditional samples of assessment timelines and summaries, see examples starting on Appendix D.01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itional assessment timelines and summaries are available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assessing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n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lect a category of inter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D680-877D-4D77-B9B7-49D990EDB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8:52Z</dcterms:modified>
  <cp:revision>171</cp:revision>
  <dc:subject/>
  <dc:title>Presentation Title Goes Here</dc:title>
</cp:coreProperties>
</file>